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FAC7-2F48-40E9-B0B3-B629C8D9D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000E-C8B9-49F7-B7BB-2E79793BD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915840" y="3981240"/>
            <a:ext cx="5026320" cy="44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08A9-604B-4401-BCCD-862BC95D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C7C4-D729-4378-BB83-E859AD90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56625-AAB5-43B9-BD89-7F7C0C44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7998B-EB1E-46AD-84E7-05CD4A66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C7ED5-46AF-4CF2-BDB5-57AC9BBC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12B00-C0FC-4D14-BAEA-76E7DD10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EF215-4697-4A69-96EF-B9599B67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4C691-9399-44C7-8CC7-DEFC2699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5D2DE-5005-44DF-A38F-A5E8D875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4F3A6-033F-4B7A-B3D6-BCD11731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0672B-5F9F-41C9-AD48-B354CB52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E77EE-A883-4560-B7DC-CC877699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8417-6750-4E29-B171-4EC54F5C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3D05F-A843-4220-A652-122AA224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74DB2-1ABF-49F7-9A58-1FCE5315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C9696-BA20-4218-A9C1-11829455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82B34-A4F4-4407-B2DC-B658F62C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C2251-69D1-4B78-9778-F29ADB87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619A6-FC06-4EC6-950D-2187BB5A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1A3BE-1191-4503-97C6-361DE465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E1677-1824-498B-A57B-F5794214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A43D1-6385-44DF-969B-B8FC9DA9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BE1982-978F-492A-8C18-64677662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E511-9552-4AF6-A8D6-458D9F06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50783-6C13-45F3-B94D-95ED17034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407A1-0CEE-4E5E-806D-8AA80510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71D8D-E7BF-46F6-8E93-64F4D1D7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16997-1CF0-4202-AB1C-22178BD5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0C08D-F9C3-4444-BBC2-F897E35A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2767D-8D2D-4CBD-B19D-E2CDD5E5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A4B4F-6EF5-4005-ACC6-8897D40B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43F1B-9FB0-4EA5-8017-CC5A8FBD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5C75E-913A-400F-B9A4-B3D994D9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4FA09-1C39-46F8-8D2B-FB85FBB1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2CC9-C556-4802-A475-0B4713D7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EB96B-2409-413C-874A-BFA58A7C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D524B-BC9B-4047-809D-1327B1B5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7E655-E081-4B1C-8174-84B4C0A0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88984-4113-4C83-BA9A-CCD98494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32197-AB5E-4CF0-801E-A08A8BD3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349B8-0B1E-4C86-A7B2-B97ADE88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EB24B-F29C-4FF3-B244-98B13EE4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56BE2-8362-4E85-A209-ADAD7FBC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5E0C7-EA24-452C-B66D-A46B08E4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6A918-F836-40BD-A9E0-EBDC30F3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DBEE-454D-4853-ACEE-423A15DC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71E58-1F87-4F8A-A257-3D0DEE88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556C2-BA22-4CD1-BA85-311C31BB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9AE89-4B7A-4B26-AA1B-5C28B272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D4D42-ED21-4FD5-957C-AAAAE046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3C909-30CE-4639-8CB0-E530BCDA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F4D14D-82DF-4EBB-BC9D-D0B8C349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3E77C0-D127-49A3-9AD6-9ECE6F8E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7C1CDE-C3C1-4048-A028-BCB3F887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2730F7-3825-4B5E-AC75-F756FD95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B31F70-E335-43B3-A404-D89F1A8A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0A6B-C2D3-492F-814D-41D6A625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A15B09-6722-4C0C-AAA4-6792D35B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000035-70D2-47F7-B59B-6D5FADDC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84FF36-35CB-4837-A157-7AA50693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A4FF01-5992-4889-9586-1BC062C2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4BE1B0-2390-4AF4-A96C-F6684E8A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5E17A7-FFF2-4AD7-86A1-CE6B888C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226261-7850-4360-B0C7-7C5A7219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49B861-7BE3-4525-8C9C-B42FF2D3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6731A3-D9E1-47BD-91B0-69B8FBB6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2061DE-2D91-4ECA-96FC-E20BEAB8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381A-99C5-4326-A919-EE42E97F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1C3031-37C3-4450-8706-6CA9B195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425049-70DA-477E-AB96-56E95C10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2DFFB0-FC2D-4989-B75A-E7F7CCFD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1358A2-E8A9-410C-8A3A-203526FC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19843E-BFD0-427E-BA8A-536029EB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7E4C2B-932C-43D8-8E41-A224BFB7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15522E-CB26-4472-8B9A-F8675A87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5AFC09-EBF7-4561-B8BC-D49FE072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3455F6-EE5D-4F53-9241-340B3F3D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0B4EC9-FCD9-4A9E-9185-151BF238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B53B-DBCF-4CE4-94A3-CB254600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3AFC9B-0786-4B78-9A43-6850E38E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2C4EF9-5A7F-4B78-AB18-7031D8E0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2DE633-6684-411A-9BA8-D0D88CAA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BA11EC-FC90-4C2F-9FAD-1A1D7A4E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021228-ABB7-4FCD-A03D-3D3CC708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34202B-28A4-471F-8CBC-0864E9A9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E4F593-FC0F-4B97-A10B-93F4FADA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CD4BE8-3F65-4AFC-9709-02343F9A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81231A-3466-4371-A16D-CF5FD227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B21348-2D41-431A-BA1D-0A1E8D8B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EE5E-9DC9-48BE-B38E-3C4833E8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BF3C52-15F1-4D6B-A8B8-80863880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FD2C17-F36B-461D-AF66-A61F89CA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728CF8-0DC0-4575-A149-7450F5DE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DB0153-BB15-4702-AD31-6392BE54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9A45FA-DF27-49B7-A103-9C08EE9E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6272AE-4ABE-4D71-8E33-9C3BBC8E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AC42FE-66A6-40F5-B2B8-48FA994F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2B1ACC-6145-4500-95B4-AA77F614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1A90E3-E5C3-4F44-8BF7-B538CFD9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049B49-75CE-4403-BCBF-F4EDC763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2754-E352-4965-B315-35181590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C5F6EF-8698-4B3B-B3E9-49500504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84ECC3-38B6-4B86-B297-9FA82EC7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1ADBC1-EB97-44AD-9BDF-49A71058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11EEDD-6951-40D8-BE20-082397D1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7F2B82-5BD7-4972-8EE5-3524A0B7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882374-FD3F-4FDF-8007-F4F9C7CC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82656A-F98A-4016-AB8E-01DCE61F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D7E9AA-B20A-4C03-A9E8-875381E9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8846A7-F97D-4287-A233-1CEA3B3F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436AB1-D62D-42C6-9139-BFF64B50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9F61-F0A4-416D-830D-520B3671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F27F-9593-45BD-8B2B-544A5746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CB2A8C-FF40-4548-B81C-0FFBA895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75CC20-3858-49CB-A127-7937C34A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E9AD07-9543-4662-94D5-B1612E51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0DFE23-B1FA-4E12-816B-E2884C96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D4A06E-0C6F-4822-995D-7A89D417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02CF-1C64-4465-BE2E-95F5073D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D869-FE8B-4E12-8C2C-76719A64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EB64-D28F-436D-A6C2-76ECFA18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A970-4D23-40F2-B14F-A89F4A0C9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B83D5-593E-4280-BC1A-C8D44D46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7A63D-F79A-4193-A0E9-BF3A8FF5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D74F5-B534-41F0-85C4-34C79036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F6B0F-AAC2-4B38-8926-62764657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3F6CA-782E-4235-8EB1-C433B58C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0E35-71DA-40B0-9636-0D08633D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D2997-3230-47EE-916A-EB9BB382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4D891-8A92-47FA-8686-0924A001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121D3-813C-456E-9795-4AEC6921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EA98A-550A-429D-BBBC-7AC74B5F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D5F48-7738-4645-8575-29EC95C8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0443A-9551-449D-8C7E-16084FB6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EC98A-94AD-492D-B316-BD66488D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F795E-36B5-4B46-926A-5E05FEFC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6AD2B-8D0F-4465-A882-709B16D5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3C375-8159-4504-BB03-0C42001D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F245-B631-48E4-8DC2-F7CCCD42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269FD-27FC-46EC-BC1B-EB64BB9E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49000-92C6-42A5-88EC-D36FB822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37D50-2E76-4BF3-A526-EE4A1F79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3FB70-7B48-4029-A89F-396624E3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51F39-4450-4E35-9397-4EC393FC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5BBB5-8E6F-4A78-A6C5-300F9FCE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35485-2353-43ED-86BE-51B577CC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943B6-200F-464A-A96A-F2CEB633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B0113-FC60-47DA-91A2-B825E8BB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FC536-FE7F-42D8-8FD1-8BEFCB59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CFE7-1F74-492C-B750-F5D1F90F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61569-830D-4EB0-B224-88DC2FDE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284BC-498B-4B47-97D7-E2341268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4E8B1-BA6C-4425-922E-7F063850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CD491-94B1-4E04-BDAF-B5D1FF1B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E24EE-E911-44D3-A97A-D8E898F7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54176-1261-46D4-85C7-62143FEE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23337-D92A-4EAE-8311-15F90846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C15E2-0A31-4165-8CFA-08469CBE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0F7C1-423A-4024-9AD2-FBE4BEEB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4BEEF-91B1-42B5-92CA-49665400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84D3-22C3-4F80-B7F3-9E1ABBFD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7E256-F052-462D-B7F0-CE17118E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BE3E9-DF44-4783-AAA4-B061D11E2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C736D-DCFC-4F85-A74B-072F58B5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87785-E961-4E97-B11C-DA1F844C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6DCA4-75A1-43D0-94FE-2B94B922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3E42D-00EE-4127-916A-35F26DE1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DFB4E-D1EA-40B2-8F38-73F05483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4ED77-2812-479A-B70E-13811FC7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A6026-AC99-4330-89D1-D78A4A58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1687B-28B5-4B21-8CB3-22F024ED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4581-DB82-445A-8A64-793E7262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E9290-76A7-4F43-BA5B-25052A79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7053D-D169-4DC9-9D85-5A70DC7A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28816-CE2E-43E6-9B15-0358CDE3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961C0-91EC-4DA9-AB15-D9CBAD53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308C4-856E-4492-8883-33C15021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C6C38-B3C0-4114-A916-3170F91C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01C44-A4CB-451A-8330-4E34001A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C1B4F-351C-41B5-A8C2-1BB32085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2F007-6C36-43AB-A5D1-08A3417E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7BBB5-F1EE-46E5-A9C7-56AAB8DC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D2E4-3648-4ED0-9AF5-AB10B526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840CC-C580-4152-B29B-9BD8950D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148ED-CCEB-47E5-AAB3-FB4552C0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72859-59CF-48BC-8241-B2E1D2F4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B39A5-D736-4CD2-8CAE-45179C06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600AC-D93D-4D19-AC52-1FB2D22F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DA507-31CE-414F-A282-3B385621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20D00-1349-4D9B-8D92-B26E031B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7927C-AC7F-4BA3-99EA-F5C970EC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54DF5-C24B-4040-BE4F-2B87E791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9462A-0E3E-4B3F-8904-B2D2A0D7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9D6A-5D4E-4FD5-BE30-46D703B9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33268-20A8-4A23-9C2C-BE7322C0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ECF39-63C7-4015-A19A-22B852A2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BA681-1E7B-43CA-A837-A072D6F7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FCAD6-1A88-4B30-9403-C258CB21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D2D3D-64EB-4D90-B5F0-ACAA89FA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B166F-D2CB-4BAA-98EF-A1FFF2B4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BB00F-5055-4491-A087-BF4DCE0E9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C7709-B0E1-48F0-A4EA-3F057004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A8461-9315-41DF-B529-7D921924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5C6E7-3B81-4B8D-9571-95486C12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289E-8D8E-4193-B92A-F9275C01E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3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4329-CF0C-4CAF-915C-812FA99A03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1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BAAC-868B-4A34-ADE2-ED30A89DC6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8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2F67-756C-408F-9FF7-48A6417024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5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8455-E8B6-46CD-8718-E5525CCED4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3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1CA3-D322-4F98-BD04-87274ED8BA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00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0BFF-F381-4143-9DE8-6007953DC3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08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053D-8380-4628-A43C-04201A6821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15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F15E-85F0-451E-A1F4-DB17ADA6D9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CC2F-6C86-41A7-B638-E159813FD5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6563-E86B-4306-A938-8EE429BC09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9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8231-B53B-4ACD-BF5C-5CB7177271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6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103D-B57C-4145-A96D-CA2EFD2998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4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605C-B087-4DFA-BA7B-B3D84313CF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1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0997-0631-484E-9F4A-9B9BE76A23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8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79BC-6329-4779-8CCB-3C0C246ADB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6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F785-EBFB-4214-9F27-9B514F66F2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hemicalgraphics.com/paul/images/DNA/BallAndStick.jpg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3.jpeg"/><Relationship Id="rId5" Type="http://schemas.openxmlformats.org/officeDocument/2006/relationships/image" Target="../media/image1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2"/>
          <p:cNvSpPr/>
          <p:nvPr/>
        </p:nvSpPr>
        <p:spPr>
          <a:xfrm>
            <a:off x="457200" y="378936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еуробиологија завис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од опиј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оф др Миња Јованов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3"/>
          <p:cNvSpPr/>
          <p:nvPr/>
        </p:nvSpPr>
        <p:spPr>
          <a:xfrm>
            <a:off x="457200" y="61070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еста недеља наста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2"/>
          <p:cNvSpPr/>
          <p:nvPr/>
        </p:nvSpPr>
        <p:spPr>
          <a:xfrm>
            <a:off x="457200" y="2286000"/>
            <a:ext cx="822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111111"/>
                </a:solidFill>
                <a:latin typeface="Arial"/>
              </a:rPr>
              <a:t>И12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ЛОУПОТРЕБА И ЗАВИСНОСТ ОД ЛЕКОВА И ПА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6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944640" y="380880"/>
            <a:ext cx="740736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556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еуроанатомиј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еуробиологиј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фармаколог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 txBox="1"/>
          <p:nvPr/>
        </p:nvSpPr>
        <p:spPr>
          <a:xfrm>
            <a:off x="457200" y="1600200"/>
            <a:ext cx="822960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ихејвиорал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дговор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мплекса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главн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веза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раткотрајн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уготрајн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фекти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рог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озг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ритеријум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виснос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АС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наж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ељ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пулзиј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могућност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трол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пстиненцијал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из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ндро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леранциј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гресивн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немаривањ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тернативних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довољстав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ересовањ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вљањ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ришћење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пркос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асни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казим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етни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ледицам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8892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еханизм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зг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уробиолог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уроанато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457200" y="1600200"/>
            <a:ext cx="82296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редњ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за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гио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држ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ног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ре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аж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А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зир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в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гио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кључе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отивацију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че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ажн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имулус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круже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ледичн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нашањ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води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задовољству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понашању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важном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одржавање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живота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узимање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</a:rPr>
              <a:t>хране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</a:rPr>
              <a:t>воде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8892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еханизм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зг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уробиолог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уроанато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457200" y="15998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еђумозак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мплексниј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neuroimaging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ехни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казу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ктиви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јств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тимулу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оузроку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удњ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висник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муникац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озг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дв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уте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ћел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уро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Хемијск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есинџер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но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рук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синаптичк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уро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стсинаптичк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уро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к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обр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оуче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уротрансмите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левант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лов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АС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опам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ротон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орадренал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АБ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лутама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ндоге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пиоид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3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еханизм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зг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уробиолог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уроанато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457200" y="159984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сихоактив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пстанц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њ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итира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фект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род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ндоге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уротрансмите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меша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ормал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зг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локирајућ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мета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орма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ладишт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лобађајућ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лањајућ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уротрансмитер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а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аж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ханиза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локир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узима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уротрансмите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лобађа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синаптич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8892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еханизм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зг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уробиолог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уроанато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 txBox="1"/>
          <p:nvPr/>
        </p:nvSpPr>
        <p:spPr>
          <a:xfrm>
            <a:off x="457200" y="15998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локад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узима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ме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ормал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уротрансмите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АС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а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еж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јачава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цепто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знат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гони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азличит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АС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азличит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чи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озг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оизводећ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азличит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фект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езу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азличит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ипов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цепто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већа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мањи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ктивнос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уро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уте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коли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еханиза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3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еханизм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зг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уробиолог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уроанато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457200" y="1599840"/>
            <a:ext cx="8229600" cy="37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ришће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АС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пресор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кохол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датив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ипноти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халанси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парљив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стварач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имуланс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каи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кста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пиоид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рфи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ерои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пију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алуциноген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CP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SD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T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M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набиноид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ашиш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риху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еханизм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зг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уробиолог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уроанатом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пиј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457200" y="1600200"/>
            <a:ext cx="822960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ија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ректн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зивање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иоид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цептор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продукујућ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изиолош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фект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ндоге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иоид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нкефал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ндорф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норф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вантитатив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теракцијис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мењен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ханизм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ар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ханиза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лова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тив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цепто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цептор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говор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гулаци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алгез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спиратор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преси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стипаци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виснос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алгези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урез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даци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алгези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еханизм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зг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уробиолог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уроанатом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пиј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 txBox="1"/>
          <p:nvPr/>
        </p:nvSpPr>
        <p:spPr>
          <a:xfrm>
            <a:off x="457200" y="1600200"/>
            <a:ext cx="822960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урохемијск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бива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пијатско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виснос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ложе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зулта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одулац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уротрансмис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опаминергичк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ротонергичк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орадренергичк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холинергичк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исте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јств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пиоид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цептор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кут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пликац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овод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ктивац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наша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иближава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дац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налгез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егетатив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фека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сећа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ијат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еханизм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зг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уробиолог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уроанатом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пиј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 txBox="1"/>
          <p:nvPr/>
        </p:nvSpPr>
        <p:spPr>
          <a:xfrm>
            <a:off x="457200" y="15998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иво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опаминергичк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уро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езенцефалон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лујућ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пиоид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цептор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ксцитаторн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ип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пија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јачава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ктивнос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исте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им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држав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отор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ктивац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иближав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налгез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лимич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ндокр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гулаци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ксцитатор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пиоид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цепто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ОР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исте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гулац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егетатив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еханиза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рганизац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аж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налгез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ктивац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ндокри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еханиза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еханизм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озгу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еуробиологиј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еуроанатомиј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опиј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457200" y="1600200"/>
            <a:ext cx="822960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рганизац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аж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хипоактивнос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налгези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Холинергички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систе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хипоактивнос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верзив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фек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лабље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аж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брад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нформаци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Хронич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потреб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пија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азво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олеранц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датив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верзив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егетатив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фект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кут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име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снижење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нивоа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обрта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1" i="1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NOR</a:t>
            </a:r>
            <a:r>
              <a:rPr b="1" i="1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SE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гл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кид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ноше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ксцесив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тимулац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цепто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пад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дгово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дстимулиса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исте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пстиненцијал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индр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09480" y="5724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еуроанатомиј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еуробиологиј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фармаколог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457200" y="160020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Зависност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супстанци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поремећај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функције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мозга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настао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коришћењем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психоактивне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супстанце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Психоактивне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супстанце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утичу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перцепцију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емоционалне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мотивационе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процесе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мозгу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Одговор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мозга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испољава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понашање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мишљење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поремећај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функције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мозга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резултира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комплексним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бихејвиоралним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симптомима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опаминергичк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у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г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457200" y="1600200"/>
            <a:ext cx="8229600" cy="41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ћ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пстанц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лоупотребљава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ћава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в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со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c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umb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 кључ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редовањ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фект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гра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зитив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ткрепље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лог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ључ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ципирањ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ишће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пстанц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стиненцијално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из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опаминергичк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у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г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в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ћа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д п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имата који су тренира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ап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ђ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довољства чак 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ап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говешта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ра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леди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оли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ра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сут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паминс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упа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гатив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фек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п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СФОР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дик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де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а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г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приц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гледа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абра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рог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сут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уп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сфор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јача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пул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имање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рог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пстиненцијал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р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457200" y="1599840"/>
            <a:ext cx="8229600" cy="24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дукц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опаминс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паж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пстиненцијално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риз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ано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пстиненциј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ећи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рог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уроимиџин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туд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пијати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каин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лкохол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ткрил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дукци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цепто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порави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звес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раниц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оком апстиненц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ерзисти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есеци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ретма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ди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457200" y="1600200"/>
            <a:ext cx="822960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дуку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ришће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рог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0-6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ретма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о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обровоља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и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фикаса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родич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тицај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могн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брзај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кључе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страј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ограми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лечењ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достатак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родич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дрш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мат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лош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мплијанс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поручен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оце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лечењ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дели леч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457200" y="1600200"/>
            <a:ext cx="822960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200" spc="-1" strike="noStrike">
                <a:solidFill>
                  <a:srgbClr val="000000"/>
                </a:solidFill>
                <a:latin typeface="Arial"/>
              </a:rPr>
              <a:t>Naltrexon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дугоделујући опијатски антагониста-антагонизује ефекте опија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ва терапија почиње након супервизиране детоксикације, зато што 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naltrex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нема могућност ублажавања апстиненцијалне криз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вај вид лечења захтева позитиван терапијски однос, ефективну терапију саветовања, психотерапију, мониторинг комплијанс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ел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леч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Метадо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интетск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пиоид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гонис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држава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игур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могућав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станак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зима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херо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себ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мбину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ихејвиоралн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сихотерапиј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аветовање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стал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рвиси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дрш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Бупренорф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арцијал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гонис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цепто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лаб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нтагонис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200" spc="-1" strike="noStrike">
                <a:solidFill>
                  <a:srgbClr val="000000"/>
                </a:solidFill>
                <a:latin typeface="Arial"/>
              </a:rPr>
              <a:t>κ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цепто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латив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уг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лов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обар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игурнос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офил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r-RS" sz="4000" spc="-1" strike="noStrike">
                <a:solidFill>
                  <a:srgbClr val="000000"/>
                </a:solidFill>
                <a:latin typeface="Arial"/>
              </a:rPr>
              <a:t>ХВАЛА НА ПАЖЊ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0" name="Picture 5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4343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40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Биолошк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азн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457200" y="1600200"/>
            <a:ext cx="822960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лоупотреб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виснос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рог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лкохол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рп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енетс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тица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velty seek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мперамен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енетс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иктор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говор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таболиз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изи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сн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вис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одич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ктор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лед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ктор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снији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дицински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ледица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ишћ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рог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завис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сихијатријс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1" name="Group 51"/>
          <p:cNvGrpSpPr/>
          <p:nvPr/>
        </p:nvGrpSpPr>
        <p:grpSpPr>
          <a:xfrm>
            <a:off x="1330200" y="1524240"/>
            <a:ext cx="6442200" cy="4966200"/>
            <a:chOff x="1330200" y="1524240"/>
            <a:chExt cx="6442200" cy="4966200"/>
          </a:xfrm>
        </p:grpSpPr>
        <p:sp>
          <p:nvSpPr>
            <p:cNvPr id="1242" name="Rectangle 9"/>
            <p:cNvSpPr/>
            <p:nvPr/>
          </p:nvSpPr>
          <p:spPr>
            <a:xfrm>
              <a:off x="3375000" y="4307040"/>
              <a:ext cx="2523960" cy="699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Text Box 10"/>
            <p:cNvSpPr/>
            <p:nvPr/>
          </p:nvSpPr>
          <p:spPr>
            <a:xfrm>
              <a:off x="4053960" y="1703880"/>
              <a:ext cx="11102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000000"/>
                  </a:solidFill>
                  <a:latin typeface="Arial"/>
                </a:rPr>
                <a:t>ЛЕКОВ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Text Box 11"/>
            <p:cNvSpPr/>
            <p:nvPr/>
          </p:nvSpPr>
          <p:spPr>
            <a:xfrm>
              <a:off x="3765960" y="3147120"/>
              <a:ext cx="1715400" cy="642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000000"/>
                  </a:solidFill>
                  <a:latin typeface="Arial"/>
                </a:rPr>
                <a:t>МЕХАНИЗМИ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800"/>
              </a:br>
              <a:r>
                <a:rPr b="0" lang="sr-RS" sz="1800" spc="-1" strike="noStrike">
                  <a:solidFill>
                    <a:srgbClr val="000000"/>
                  </a:solidFill>
                  <a:latin typeface="Arial"/>
                </a:rPr>
                <a:t>МОЗГ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Text Box 12"/>
            <p:cNvSpPr/>
            <p:nvPr/>
          </p:nvSpPr>
          <p:spPr>
            <a:xfrm>
              <a:off x="3823560" y="4464720"/>
              <a:ext cx="160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000000"/>
                  </a:solidFill>
                  <a:latin typeface="Arial"/>
                </a:rPr>
                <a:t>ЗАВИСНО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Text Box 13"/>
            <p:cNvSpPr/>
            <p:nvPr/>
          </p:nvSpPr>
          <p:spPr>
            <a:xfrm>
              <a:off x="3885480" y="5446080"/>
              <a:ext cx="153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000000"/>
                  </a:solidFill>
                  <a:latin typeface="Arial"/>
                </a:rPr>
                <a:t>ОКРУЖЕЊ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Text Box 14"/>
            <p:cNvSpPr/>
            <p:nvPr/>
          </p:nvSpPr>
          <p:spPr>
            <a:xfrm>
              <a:off x="1985040" y="1525680"/>
              <a:ext cx="155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2000" spc="-1" strike="noStrike">
                  <a:solidFill>
                    <a:srgbClr val="000000"/>
                  </a:solidFill>
                  <a:latin typeface="Arial"/>
                </a:rPr>
                <a:t>ИСТОРИЈ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Text Box 15"/>
            <p:cNvSpPr/>
            <p:nvPr/>
          </p:nvSpPr>
          <p:spPr>
            <a:xfrm>
              <a:off x="1865160" y="1815840"/>
              <a:ext cx="1936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sr-RS" sz="1400" spc="-1" strike="noStrike">
                  <a:solidFill>
                    <a:srgbClr val="000000"/>
                  </a:solidFill>
                  <a:latin typeface="Arial"/>
                </a:rPr>
                <a:t> предходна историја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sr-RS" sz="1400" spc="-1" strike="noStrike">
                  <a:solidFill>
                    <a:srgbClr val="000000"/>
                  </a:solidFill>
                  <a:latin typeface="Arial"/>
                </a:rPr>
                <a:t>очекивања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sr-RS" sz="1400" spc="-1" strike="noStrike">
                  <a:solidFill>
                    <a:srgbClr val="000000"/>
                  </a:solidFill>
                  <a:latin typeface="Arial"/>
                </a:rPr>
                <a:t>учењ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Text Box 16"/>
            <p:cNvSpPr/>
            <p:nvPr/>
          </p:nvSpPr>
          <p:spPr>
            <a:xfrm>
              <a:off x="3666960" y="5757120"/>
              <a:ext cx="2166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sr-RS" sz="1400" spc="-1" strike="noStrike">
                  <a:solidFill>
                    <a:srgbClr val="000000"/>
                  </a:solidFill>
                  <a:latin typeface="Arial"/>
                </a:rPr>
                <a:t>социјалне интеракције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sr-RS" sz="1400" spc="-1" strike="noStrike">
                  <a:solidFill>
                    <a:srgbClr val="000000"/>
                  </a:solidFill>
                  <a:latin typeface="Arial"/>
                </a:rPr>
                <a:t>стрес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sr-RS" sz="1400" spc="-1" strike="noStrike">
                  <a:solidFill>
                    <a:srgbClr val="000000"/>
                  </a:solidFill>
                  <a:latin typeface="Arial"/>
                </a:rPr>
                <a:t>условљени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00"/>
                  </a:solidFill>
                  <a:latin typeface="Arial"/>
                </a:rPr>
                <a:t>стимул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Text Box 17"/>
            <p:cNvSpPr/>
            <p:nvPr/>
          </p:nvSpPr>
          <p:spPr>
            <a:xfrm>
              <a:off x="5915880" y="1816200"/>
              <a:ext cx="1557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sr-RS" sz="1400" spc="-1" strike="noStrike">
                  <a:solidFill>
                    <a:srgbClr val="000000"/>
                  </a:solidFill>
                  <a:latin typeface="Arial"/>
                </a:rPr>
                <a:t>генетика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circadian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00"/>
                  </a:solidFill>
                  <a:latin typeface="Arial"/>
                </a:rPr>
                <a:t>ритам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sr-RS" sz="1400" spc="-1" strike="noStrike">
                  <a:solidFill>
                    <a:srgbClr val="000000"/>
                  </a:solidFill>
                  <a:latin typeface="Arial"/>
                </a:rPr>
                <a:t>стања болести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sr-RS" sz="1400" spc="-1" strike="noStrike">
                  <a:solidFill>
                    <a:srgbClr val="000000"/>
                  </a:solidFill>
                  <a:latin typeface="Arial"/>
                </a:rPr>
                <a:t>по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1" name="Group 18" descr=""/>
            <p:cNvPicPr/>
            <p:nvPr/>
          </p:nvPicPr>
          <p:blipFill>
            <a:blip r:embed="rId1"/>
            <a:stretch/>
          </p:blipFill>
          <p:spPr>
            <a:xfrm>
              <a:off x="4437720" y="2170080"/>
              <a:ext cx="377640" cy="82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2" name="Rectangle 21"/>
            <p:cNvSpPr/>
            <p:nvPr/>
          </p:nvSpPr>
          <p:spPr>
            <a:xfrm flipV="1">
              <a:off x="5916600" y="4629240"/>
              <a:ext cx="1228680" cy="85680"/>
            </a:xfrm>
            <a:prstGeom prst="rect">
              <a:avLst/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22"/>
            <p:cNvSpPr/>
            <p:nvPr/>
          </p:nvSpPr>
          <p:spPr>
            <a:xfrm flipV="1">
              <a:off x="7048800" y="3573360"/>
              <a:ext cx="107640" cy="1092240"/>
            </a:xfrm>
            <a:prstGeom prst="rect">
              <a:avLst/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23"/>
            <p:cNvSpPr/>
            <p:nvPr/>
          </p:nvSpPr>
          <p:spPr>
            <a:xfrm flipV="1">
              <a:off x="6505560" y="3525840"/>
              <a:ext cx="637920" cy="93600"/>
            </a:xfrm>
            <a:prstGeom prst="rect">
              <a:avLst/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24"/>
            <p:cNvSpPr/>
            <p:nvPr/>
          </p:nvSpPr>
          <p:spPr>
            <a:xfrm>
              <a:off x="6324840" y="3457440"/>
              <a:ext cx="304560" cy="23652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8" y="0"/>
                  </a:moveTo>
                  <a:lnTo>
                    <a:pt x="0" y="109"/>
                  </a:lnTo>
                  <a:lnTo>
                    <a:pt x="214" y="209"/>
                  </a:lnTo>
                  <a:lnTo>
                    <a:pt x="208" y="0"/>
                  </a:lnTo>
                </a:path>
              </a:pathLst>
            </a:custGeom>
            <a:solidFill>
              <a:srgbClr val="595959"/>
            </a:solidFill>
            <a:ln w="936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6" name="Group 25" descr=""/>
            <p:cNvPicPr/>
            <p:nvPr/>
          </p:nvPicPr>
          <p:blipFill>
            <a:blip r:embed="rId2"/>
            <a:stretch/>
          </p:blipFill>
          <p:spPr>
            <a:xfrm>
              <a:off x="4468320" y="3791520"/>
              <a:ext cx="377640" cy="69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7" name="Group 28" descr=""/>
            <p:cNvPicPr/>
            <p:nvPr/>
          </p:nvPicPr>
          <p:blipFill>
            <a:blip r:embed="rId3"/>
            <a:stretch/>
          </p:blipFill>
          <p:spPr>
            <a:xfrm>
              <a:off x="3889080" y="4858560"/>
              <a:ext cx="37764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8" name="Group 31" descr=""/>
            <p:cNvPicPr/>
            <p:nvPr/>
          </p:nvPicPr>
          <p:blipFill>
            <a:blip r:embed="rId4"/>
            <a:stretch/>
          </p:blipFill>
          <p:spPr>
            <a:xfrm>
              <a:off x="4858560" y="4858560"/>
              <a:ext cx="3718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9" name="Rectangle 34"/>
            <p:cNvSpPr/>
            <p:nvPr/>
          </p:nvSpPr>
          <p:spPr>
            <a:xfrm flipV="1">
              <a:off x="6202440" y="5613480"/>
              <a:ext cx="1568520" cy="93600"/>
            </a:xfrm>
            <a:prstGeom prst="rect">
              <a:avLst/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Rectangle 35"/>
            <p:cNvSpPr/>
            <p:nvPr/>
          </p:nvSpPr>
          <p:spPr>
            <a:xfrm flipV="1">
              <a:off x="7669440" y="3203640"/>
              <a:ext cx="102960" cy="2424240"/>
            </a:xfrm>
            <a:prstGeom prst="rect">
              <a:avLst/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Rectangle 36"/>
            <p:cNvSpPr/>
            <p:nvPr/>
          </p:nvSpPr>
          <p:spPr>
            <a:xfrm flipV="1">
              <a:off x="6589800" y="3173400"/>
              <a:ext cx="1182600" cy="93600"/>
            </a:xfrm>
            <a:prstGeom prst="rect">
              <a:avLst/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37"/>
            <p:cNvSpPr/>
            <p:nvPr/>
          </p:nvSpPr>
          <p:spPr>
            <a:xfrm flipV="1">
              <a:off x="2457360" y="3605040"/>
              <a:ext cx="455400" cy="102960"/>
            </a:xfrm>
            <a:prstGeom prst="rect">
              <a:avLst/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38"/>
            <p:cNvSpPr/>
            <p:nvPr/>
          </p:nvSpPr>
          <p:spPr>
            <a:xfrm flipV="1">
              <a:off x="1893600" y="3605040"/>
              <a:ext cx="455400" cy="109440"/>
            </a:xfrm>
            <a:prstGeom prst="rect">
              <a:avLst/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39"/>
            <p:cNvSpPr/>
            <p:nvPr/>
          </p:nvSpPr>
          <p:spPr>
            <a:xfrm flipV="1">
              <a:off x="1330200" y="3608280"/>
              <a:ext cx="455400" cy="102960"/>
            </a:xfrm>
            <a:prstGeom prst="rect">
              <a:avLst/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40"/>
            <p:cNvSpPr/>
            <p:nvPr/>
          </p:nvSpPr>
          <p:spPr>
            <a:xfrm flipV="1" rot="16200000">
              <a:off x="1219680" y="3732840"/>
              <a:ext cx="358560" cy="134640"/>
            </a:xfrm>
            <a:prstGeom prst="rect">
              <a:avLst/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Rectangle 41"/>
            <p:cNvSpPr/>
            <p:nvPr/>
          </p:nvSpPr>
          <p:spPr>
            <a:xfrm flipV="1" rot="16200000">
              <a:off x="1216440" y="4165560"/>
              <a:ext cx="360360" cy="133200"/>
            </a:xfrm>
            <a:prstGeom prst="rect">
              <a:avLst/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42"/>
            <p:cNvSpPr/>
            <p:nvPr/>
          </p:nvSpPr>
          <p:spPr>
            <a:xfrm flipV="1" rot="16200000">
              <a:off x="1215720" y="4602960"/>
              <a:ext cx="363240" cy="134640"/>
            </a:xfrm>
            <a:prstGeom prst="rect">
              <a:avLst/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Rectangle 43"/>
            <p:cNvSpPr/>
            <p:nvPr/>
          </p:nvSpPr>
          <p:spPr>
            <a:xfrm flipV="1" rot="16200000">
              <a:off x="1218240" y="5039640"/>
              <a:ext cx="358560" cy="134640"/>
            </a:xfrm>
            <a:prstGeom prst="rect">
              <a:avLst/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44"/>
            <p:cNvSpPr/>
            <p:nvPr/>
          </p:nvSpPr>
          <p:spPr>
            <a:xfrm flipV="1" rot="16200000">
              <a:off x="1216440" y="5470560"/>
              <a:ext cx="360360" cy="133200"/>
            </a:xfrm>
            <a:prstGeom prst="rect">
              <a:avLst/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45"/>
            <p:cNvSpPr/>
            <p:nvPr/>
          </p:nvSpPr>
          <p:spPr>
            <a:xfrm flipV="1">
              <a:off x="1330200" y="5612760"/>
              <a:ext cx="455400" cy="104760"/>
            </a:xfrm>
            <a:prstGeom prst="rect">
              <a:avLst/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46"/>
            <p:cNvSpPr/>
            <p:nvPr/>
          </p:nvSpPr>
          <p:spPr>
            <a:xfrm flipV="1">
              <a:off x="1888920" y="5612760"/>
              <a:ext cx="453960" cy="104760"/>
            </a:xfrm>
            <a:prstGeom prst="rect">
              <a:avLst/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47"/>
            <p:cNvSpPr/>
            <p:nvPr/>
          </p:nvSpPr>
          <p:spPr>
            <a:xfrm flipV="1">
              <a:off x="2444400" y="5612760"/>
              <a:ext cx="453960" cy="104760"/>
            </a:xfrm>
            <a:prstGeom prst="rect">
              <a:avLst/>
            </a:prstGeom>
            <a:solidFill>
              <a:srgbClr val="59595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48"/>
            <p:cNvSpPr/>
            <p:nvPr/>
          </p:nvSpPr>
          <p:spPr>
            <a:xfrm>
              <a:off x="6321600" y="3085920"/>
              <a:ext cx="296640" cy="255600"/>
            </a:xfrm>
            <a:custGeom>
              <a:avLst/>
              <a:gdLst/>
              <a:ahLst/>
              <a:rect l="l" t="t" r="r" b="b"/>
              <a:pathLst>
                <a:path w="207" h="227">
                  <a:moveTo>
                    <a:pt x="201" y="0"/>
                  </a:moveTo>
                  <a:lnTo>
                    <a:pt x="0" y="118"/>
                  </a:lnTo>
                  <a:lnTo>
                    <a:pt x="206" y="226"/>
                  </a:lnTo>
                  <a:lnTo>
                    <a:pt x="201" y="0"/>
                  </a:lnTo>
                </a:path>
              </a:pathLst>
            </a:custGeom>
            <a:solidFill>
              <a:srgbClr val="595959"/>
            </a:solidFill>
            <a:ln w="936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4" name="Group 49" descr=""/>
            <p:cNvPicPr/>
            <p:nvPr/>
          </p:nvPicPr>
          <p:blipFill>
            <a:blip r:embed="rId5"/>
            <a:stretch/>
          </p:blipFill>
          <p:spPr>
            <a:xfrm>
              <a:off x="5175360" y="2127240"/>
              <a:ext cx="688680" cy="97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5" name="Freeform 52"/>
            <p:cNvSpPr/>
            <p:nvPr/>
          </p:nvSpPr>
          <p:spPr>
            <a:xfrm>
              <a:off x="2779560" y="5529240"/>
              <a:ext cx="296640" cy="271440"/>
            </a:xfrm>
            <a:custGeom>
              <a:avLst/>
              <a:gdLst/>
              <a:ahLst/>
              <a:rect l="l" t="t" r="r" b="b"/>
              <a:pathLst>
                <a:path w="208" h="240">
                  <a:moveTo>
                    <a:pt x="0" y="239"/>
                  </a:moveTo>
                  <a:lnTo>
                    <a:pt x="207" y="119"/>
                  </a:lnTo>
                  <a:lnTo>
                    <a:pt x="0" y="0"/>
                  </a:lnTo>
                  <a:lnTo>
                    <a:pt x="0" y="239"/>
                  </a:lnTo>
                </a:path>
              </a:pathLst>
            </a:custGeom>
            <a:solidFill>
              <a:srgbClr val="595959"/>
            </a:solidFill>
            <a:ln w="936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Text Box 53"/>
            <p:cNvSpPr/>
            <p:nvPr/>
          </p:nvSpPr>
          <p:spPr>
            <a:xfrm>
              <a:off x="5901840" y="1524240"/>
              <a:ext cx="171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2000" spc="-1" strike="noStrike">
                  <a:solidFill>
                    <a:srgbClr val="000000"/>
                  </a:solidFill>
                  <a:latin typeface="Arial"/>
                </a:rPr>
                <a:t>БИОЛОГИЈ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7" name="Group 54" descr=""/>
            <p:cNvPicPr/>
            <p:nvPr/>
          </p:nvPicPr>
          <p:blipFill>
            <a:blip r:embed="rId6"/>
            <a:stretch/>
          </p:blipFill>
          <p:spPr>
            <a:xfrm>
              <a:off x="3395160" y="2108880"/>
              <a:ext cx="682560" cy="96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8" name="Rectangle 57"/>
          <p:cNvSpPr/>
          <p:nvPr/>
        </p:nvSpPr>
        <p:spPr>
          <a:xfrm>
            <a:off x="457200" y="272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висност од дрога: комплексан бихејвиорални и неуробиолошки поремећа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69840"/>
            <a:ext cx="8153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новље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злоупотреб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рог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већав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енетск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ранскрипциј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зултир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уготрајни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труктурни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омен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0" name="Picture 3" descr=""/>
          <p:cNvPicPr/>
          <p:nvPr/>
        </p:nvPicPr>
        <p:blipFill>
          <a:blip r:embed="rId1"/>
          <a:stretch/>
        </p:blipFill>
        <p:spPr>
          <a:xfrm>
            <a:off x="498600" y="1295280"/>
            <a:ext cx="8235720" cy="5019840"/>
          </a:xfrm>
          <a:prstGeom prst="rect">
            <a:avLst/>
          </a:prstGeom>
          <a:ln w="0">
            <a:noFill/>
          </a:ln>
        </p:spPr>
      </p:pic>
      <p:sp>
        <p:nvSpPr>
          <p:cNvPr id="1281" name="Text Box 10"/>
          <p:cNvSpPr/>
          <p:nvPr/>
        </p:nvSpPr>
        <p:spPr>
          <a:xfrm>
            <a:off x="609480" y="6315120"/>
            <a:ext cx="82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stler EJ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ci Practice Persp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005; 5(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ронич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злоупотреб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каи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већав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устин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ендитритски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појев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ранањ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уро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ucleus accumbens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2"/>
          <p:cNvSpPr/>
          <p:nvPr/>
        </p:nvSpPr>
        <p:spPr>
          <a:xfrm rot="10800000">
            <a:off x="4949640" y="2971800"/>
            <a:ext cx="5004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ranch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3"/>
          <p:cNvSpPr/>
          <p:nvPr/>
        </p:nvSpPr>
        <p:spPr>
          <a:xfrm>
            <a:off x="1371600" y="534816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Rectangle 4"/>
          <p:cNvSpPr/>
          <p:nvPr/>
        </p:nvSpPr>
        <p:spPr>
          <a:xfrm>
            <a:off x="1447920" y="3978360"/>
            <a:ext cx="533160" cy="1333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5"/>
          <p:cNvSpPr/>
          <p:nvPr/>
        </p:nvSpPr>
        <p:spPr>
          <a:xfrm>
            <a:off x="1981080" y="2209680"/>
            <a:ext cx="609840" cy="309888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6"/>
          <p:cNvSpPr/>
          <p:nvPr/>
        </p:nvSpPr>
        <p:spPr>
          <a:xfrm flipH="1">
            <a:off x="1088640" y="5348160"/>
            <a:ext cx="3063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7"/>
          <p:cNvSpPr/>
          <p:nvPr/>
        </p:nvSpPr>
        <p:spPr>
          <a:xfrm>
            <a:off x="6400800" y="3276720"/>
            <a:ext cx="457200" cy="2057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8"/>
          <p:cNvSpPr/>
          <p:nvPr/>
        </p:nvSpPr>
        <p:spPr>
          <a:xfrm>
            <a:off x="6858000" y="2057400"/>
            <a:ext cx="609480" cy="325116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 Box 9"/>
          <p:cNvSpPr/>
          <p:nvPr/>
        </p:nvSpPr>
        <p:spPr>
          <a:xfrm>
            <a:off x="5405400" y="175248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 Box 10"/>
          <p:cNvSpPr/>
          <p:nvPr/>
        </p:nvSpPr>
        <p:spPr>
          <a:xfrm>
            <a:off x="5477040" y="2803680"/>
            <a:ext cx="7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Text Box 11"/>
          <p:cNvSpPr/>
          <p:nvPr/>
        </p:nvSpPr>
        <p:spPr>
          <a:xfrm>
            <a:off x="5481720" y="405432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 Box 12"/>
          <p:cNvSpPr/>
          <p:nvPr/>
        </p:nvSpPr>
        <p:spPr>
          <a:xfrm>
            <a:off x="5481720" y="510552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 Box 13"/>
          <p:cNvSpPr/>
          <p:nvPr/>
        </p:nvSpPr>
        <p:spPr>
          <a:xfrm>
            <a:off x="528480" y="167652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 Box 14"/>
          <p:cNvSpPr/>
          <p:nvPr/>
        </p:nvSpPr>
        <p:spPr>
          <a:xfrm>
            <a:off x="528480" y="281952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Text Box 15"/>
          <p:cNvSpPr/>
          <p:nvPr/>
        </p:nvSpPr>
        <p:spPr>
          <a:xfrm>
            <a:off x="609480" y="4038480"/>
            <a:ext cx="7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Text Box 16"/>
          <p:cNvSpPr/>
          <p:nvPr/>
        </p:nvSpPr>
        <p:spPr>
          <a:xfrm>
            <a:off x="604800" y="512136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Line 17"/>
          <p:cNvSpPr/>
          <p:nvPr/>
        </p:nvSpPr>
        <p:spPr>
          <a:xfrm>
            <a:off x="6173640" y="1844640"/>
            <a:ext cx="24120" cy="351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Line 18"/>
          <p:cNvSpPr/>
          <p:nvPr/>
        </p:nvSpPr>
        <p:spPr>
          <a:xfrm flipH="1">
            <a:off x="5866920" y="2987640"/>
            <a:ext cx="3063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Line 19"/>
          <p:cNvSpPr/>
          <p:nvPr/>
        </p:nvSpPr>
        <p:spPr>
          <a:xfrm flipH="1">
            <a:off x="5866920" y="4206960"/>
            <a:ext cx="3063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Line 20"/>
          <p:cNvSpPr/>
          <p:nvPr/>
        </p:nvSpPr>
        <p:spPr>
          <a:xfrm flipH="1">
            <a:off x="6019560" y="2452680"/>
            <a:ext cx="1537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Line 21"/>
          <p:cNvSpPr/>
          <p:nvPr/>
        </p:nvSpPr>
        <p:spPr>
          <a:xfrm flipH="1">
            <a:off x="6019560" y="3597120"/>
            <a:ext cx="1537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Line 22"/>
          <p:cNvSpPr/>
          <p:nvPr/>
        </p:nvSpPr>
        <p:spPr>
          <a:xfrm flipH="1">
            <a:off x="5791320" y="192096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Line 23"/>
          <p:cNvSpPr/>
          <p:nvPr/>
        </p:nvSpPr>
        <p:spPr>
          <a:xfrm flipH="1">
            <a:off x="6019560" y="4816440"/>
            <a:ext cx="1537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Line 24"/>
          <p:cNvSpPr/>
          <p:nvPr/>
        </p:nvSpPr>
        <p:spPr>
          <a:xfrm flipH="1">
            <a:off x="912960" y="5348160"/>
            <a:ext cx="5349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6" name="Picture 25" descr=""/>
          <p:cNvPicPr/>
          <p:nvPr/>
        </p:nvPicPr>
        <p:blipFill>
          <a:blip r:embed="rId1"/>
          <a:stretch/>
        </p:blipFill>
        <p:spPr>
          <a:xfrm>
            <a:off x="152280" y="2835360"/>
            <a:ext cx="425520" cy="1914480"/>
          </a:xfrm>
          <a:prstGeom prst="rect">
            <a:avLst/>
          </a:prstGeom>
          <a:ln w="0">
            <a:noFill/>
          </a:ln>
        </p:spPr>
      </p:pic>
      <p:sp>
        <p:nvSpPr>
          <p:cNvPr id="1307" name="Line 26"/>
          <p:cNvSpPr/>
          <p:nvPr/>
        </p:nvSpPr>
        <p:spPr>
          <a:xfrm>
            <a:off x="1219320" y="1828800"/>
            <a:ext cx="0" cy="351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Line 27"/>
          <p:cNvSpPr/>
          <p:nvPr/>
        </p:nvSpPr>
        <p:spPr>
          <a:xfrm flipH="1">
            <a:off x="890280" y="2971800"/>
            <a:ext cx="3063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Line 28"/>
          <p:cNvSpPr/>
          <p:nvPr/>
        </p:nvSpPr>
        <p:spPr>
          <a:xfrm flipH="1">
            <a:off x="890280" y="4191120"/>
            <a:ext cx="3063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Line 29"/>
          <p:cNvSpPr/>
          <p:nvPr/>
        </p:nvSpPr>
        <p:spPr>
          <a:xfrm flipH="1">
            <a:off x="1041480" y="2436840"/>
            <a:ext cx="154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Line 30"/>
          <p:cNvSpPr/>
          <p:nvPr/>
        </p:nvSpPr>
        <p:spPr>
          <a:xfrm flipH="1">
            <a:off x="1042920" y="3581280"/>
            <a:ext cx="15408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Line 31"/>
          <p:cNvSpPr/>
          <p:nvPr/>
        </p:nvSpPr>
        <p:spPr>
          <a:xfrm flipH="1">
            <a:off x="912600" y="1920960"/>
            <a:ext cx="3063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Line 32"/>
          <p:cNvSpPr/>
          <p:nvPr/>
        </p:nvSpPr>
        <p:spPr>
          <a:xfrm flipH="1">
            <a:off x="1042920" y="4800600"/>
            <a:ext cx="154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4" name="Picture 33" descr=""/>
          <p:cNvPicPr/>
          <p:nvPr/>
        </p:nvPicPr>
        <p:blipFill>
          <a:blip r:embed="rId2"/>
          <a:stretch/>
        </p:blipFill>
        <p:spPr>
          <a:xfrm>
            <a:off x="7620120" y="3962520"/>
            <a:ext cx="992160" cy="97128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34" descr=""/>
          <p:cNvPicPr/>
          <p:nvPr/>
        </p:nvPicPr>
        <p:blipFill>
          <a:blip r:embed="rId3"/>
          <a:stretch/>
        </p:blipFill>
        <p:spPr>
          <a:xfrm>
            <a:off x="7620120" y="2286000"/>
            <a:ext cx="1012680" cy="1055520"/>
          </a:xfrm>
          <a:prstGeom prst="rect">
            <a:avLst/>
          </a:prstGeom>
          <a:ln w="0">
            <a:noFill/>
          </a:ln>
        </p:spPr>
      </p:pic>
      <p:sp>
        <p:nvSpPr>
          <p:cNvPr id="1316" name="Rectangle 35"/>
          <p:cNvSpPr/>
          <p:nvPr/>
        </p:nvSpPr>
        <p:spPr>
          <a:xfrm>
            <a:off x="7620120" y="4952880"/>
            <a:ext cx="106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36"/>
          <p:cNvSpPr/>
          <p:nvPr/>
        </p:nvSpPr>
        <p:spPr>
          <a:xfrm>
            <a:off x="7764480" y="3352680"/>
            <a:ext cx="689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Group 37"/>
          <p:cNvGrpSpPr/>
          <p:nvPr/>
        </p:nvGrpSpPr>
        <p:grpSpPr>
          <a:xfrm>
            <a:off x="3124080" y="1981080"/>
            <a:ext cx="1447920" cy="3429000"/>
            <a:chOff x="3124080" y="1981080"/>
            <a:chExt cx="1447920" cy="3429000"/>
          </a:xfrm>
        </p:grpSpPr>
        <p:pic>
          <p:nvPicPr>
            <p:cNvPr id="1319" name="Picture 38" descr=""/>
            <p:cNvPicPr/>
            <p:nvPr/>
          </p:nvPicPr>
          <p:blipFill>
            <a:blip r:embed="rId4"/>
            <a:srcRect l="11339" t="10247" r="62828" b="7988"/>
            <a:stretch/>
          </p:blipFill>
          <p:spPr>
            <a:xfrm>
              <a:off x="3124080" y="1981080"/>
              <a:ext cx="723960" cy="342900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1320" name="Picture 39" descr=""/>
            <p:cNvPicPr/>
            <p:nvPr/>
          </p:nvPicPr>
          <p:blipFill>
            <a:blip r:embed="rId5"/>
            <a:srcRect l="63017" t="10247" r="11144" b="7988"/>
            <a:stretch/>
          </p:blipFill>
          <p:spPr>
            <a:xfrm>
              <a:off x="3848040" y="1981080"/>
              <a:ext cx="723960" cy="342900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</p:grpSp>
      <p:sp>
        <p:nvSpPr>
          <p:cNvPr id="1321" name="Line 40"/>
          <p:cNvSpPr/>
          <p:nvPr/>
        </p:nvSpPr>
        <p:spPr>
          <a:xfrm flipH="1">
            <a:off x="5866920" y="5334120"/>
            <a:ext cx="306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Line 41"/>
          <p:cNvSpPr/>
          <p:nvPr/>
        </p:nvSpPr>
        <p:spPr>
          <a:xfrm>
            <a:off x="6172200" y="533412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Text Box 42"/>
          <p:cNvSpPr/>
          <p:nvPr/>
        </p:nvSpPr>
        <p:spPr>
          <a:xfrm>
            <a:off x="5638680" y="54100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L   C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43"/>
          <p:cNvSpPr/>
          <p:nvPr/>
        </p:nvSpPr>
        <p:spPr>
          <a:xfrm flipV="1">
            <a:off x="1447920" y="3276720"/>
            <a:ext cx="198108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Line 44"/>
          <p:cNvSpPr/>
          <p:nvPr/>
        </p:nvSpPr>
        <p:spPr>
          <a:xfrm>
            <a:off x="2590920" y="2286000"/>
            <a:ext cx="14475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Line 45"/>
          <p:cNvSpPr/>
          <p:nvPr/>
        </p:nvSpPr>
        <p:spPr>
          <a:xfrm>
            <a:off x="6858000" y="2057400"/>
            <a:ext cx="8380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Line 46"/>
          <p:cNvSpPr/>
          <p:nvPr/>
        </p:nvSpPr>
        <p:spPr>
          <a:xfrm>
            <a:off x="6400800" y="3276720"/>
            <a:ext cx="121932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 Box 48"/>
          <p:cNvSpPr/>
          <p:nvPr/>
        </p:nvSpPr>
        <p:spPr>
          <a:xfrm>
            <a:off x="2819520" y="5486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L     C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 Box 49"/>
          <p:cNvSpPr/>
          <p:nvPr/>
        </p:nvSpPr>
        <p:spPr>
          <a:xfrm>
            <a:off x="457200" y="5486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L     C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Text Box 50"/>
          <p:cNvSpPr/>
          <p:nvPr/>
        </p:nvSpPr>
        <p:spPr>
          <a:xfrm>
            <a:off x="457200" y="615960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binson, T.E. &amp; Kolb, B. Eur. J. of Neuro. 1999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rrario, C.R. et al. Biol. Psychiatry, 200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Зависнос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рог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звој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олес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сок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еваленц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долесц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2" name="Group 61"/>
          <p:cNvGrpSpPr/>
          <p:nvPr/>
        </p:nvGrpSpPr>
        <p:grpSpPr>
          <a:xfrm>
            <a:off x="1152360" y="1450800"/>
            <a:ext cx="6772320" cy="4950000"/>
            <a:chOff x="1152360" y="1450800"/>
            <a:chExt cx="6772320" cy="4950000"/>
          </a:xfrm>
        </p:grpSpPr>
        <p:sp>
          <p:nvSpPr>
            <p:cNvPr id="1333" name="Rectangle 4"/>
            <p:cNvSpPr/>
            <p:nvPr/>
          </p:nvSpPr>
          <p:spPr>
            <a:xfrm>
              <a:off x="4106880" y="5870520"/>
              <a:ext cx="1639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400" spc="-1" strike="noStrike">
                  <a:solidFill>
                    <a:srgbClr val="000000"/>
                  </a:solidFill>
                  <a:latin typeface="Arial"/>
                  <a:ea typeface="Osaka"/>
                </a:rPr>
                <a:t>Узрасна груп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Line 5"/>
            <p:cNvSpPr/>
            <p:nvPr/>
          </p:nvSpPr>
          <p:spPr>
            <a:xfrm>
              <a:off x="2349720" y="1777680"/>
              <a:ext cx="1440" cy="36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Line 6"/>
            <p:cNvSpPr/>
            <p:nvPr/>
          </p:nvSpPr>
          <p:spPr>
            <a:xfrm>
              <a:off x="2308320" y="5367240"/>
              <a:ext cx="410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Line 7"/>
            <p:cNvSpPr/>
            <p:nvPr/>
          </p:nvSpPr>
          <p:spPr>
            <a:xfrm>
              <a:off x="2308320" y="5051520"/>
              <a:ext cx="410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Line 8"/>
            <p:cNvSpPr/>
            <p:nvPr/>
          </p:nvSpPr>
          <p:spPr>
            <a:xfrm>
              <a:off x="2308320" y="4633920"/>
              <a:ext cx="410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Line 9"/>
            <p:cNvSpPr/>
            <p:nvPr/>
          </p:nvSpPr>
          <p:spPr>
            <a:xfrm>
              <a:off x="2308320" y="4230720"/>
              <a:ext cx="41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Line 10"/>
            <p:cNvSpPr/>
            <p:nvPr/>
          </p:nvSpPr>
          <p:spPr>
            <a:xfrm>
              <a:off x="2308320" y="3824280"/>
              <a:ext cx="410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Line 11"/>
            <p:cNvSpPr/>
            <p:nvPr/>
          </p:nvSpPr>
          <p:spPr>
            <a:xfrm>
              <a:off x="2308320" y="3408120"/>
              <a:ext cx="410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Line 12"/>
            <p:cNvSpPr/>
            <p:nvPr/>
          </p:nvSpPr>
          <p:spPr>
            <a:xfrm>
              <a:off x="2308320" y="3003480"/>
              <a:ext cx="410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Line 13"/>
            <p:cNvSpPr/>
            <p:nvPr/>
          </p:nvSpPr>
          <p:spPr>
            <a:xfrm>
              <a:off x="2308320" y="2598480"/>
              <a:ext cx="410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Line 14"/>
            <p:cNvSpPr/>
            <p:nvPr/>
          </p:nvSpPr>
          <p:spPr>
            <a:xfrm>
              <a:off x="2308320" y="2182680"/>
              <a:ext cx="41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Line 15"/>
            <p:cNvSpPr/>
            <p:nvPr/>
          </p:nvSpPr>
          <p:spPr>
            <a:xfrm>
              <a:off x="2308320" y="1777680"/>
              <a:ext cx="410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Line 16"/>
            <p:cNvSpPr/>
            <p:nvPr/>
          </p:nvSpPr>
          <p:spPr>
            <a:xfrm>
              <a:off x="2360520" y="5452200"/>
              <a:ext cx="5564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17"/>
            <p:cNvSpPr/>
            <p:nvPr/>
          </p:nvSpPr>
          <p:spPr>
            <a:xfrm>
              <a:off x="2433960" y="2019960"/>
              <a:ext cx="5481360" cy="3405240"/>
            </a:xfrm>
            <a:custGeom>
              <a:avLst/>
              <a:gdLst>
                <a:gd name="textAreaLeft" fmla="*/ 0 w 5481360"/>
                <a:gd name="textAreaRight" fmla="*/ 5481720 w 5481360"/>
                <a:gd name="textAreaTop" fmla="*/ 0 h 3405240"/>
                <a:gd name="textAreaBottom" fmla="*/ 3405600 h 3405240"/>
              </a:gdLst>
              <a:ahLst/>
              <a:rect l="textAreaLeft" t="textAreaTop" r="textAreaRight" b="textAreaBottom"/>
              <a:pathLst>
                <a:path w="4561" h="2525">
                  <a:moveTo>
                    <a:pt x="0" y="2525"/>
                  </a:moveTo>
                  <a:lnTo>
                    <a:pt x="62" y="2525"/>
                  </a:lnTo>
                  <a:lnTo>
                    <a:pt x="124" y="2525"/>
                  </a:lnTo>
                  <a:lnTo>
                    <a:pt x="195" y="2516"/>
                  </a:lnTo>
                  <a:lnTo>
                    <a:pt x="257" y="2525"/>
                  </a:lnTo>
                  <a:lnTo>
                    <a:pt x="327" y="2525"/>
                  </a:lnTo>
                  <a:lnTo>
                    <a:pt x="389" y="2516"/>
                  </a:lnTo>
                  <a:lnTo>
                    <a:pt x="451" y="2454"/>
                  </a:lnTo>
                  <a:lnTo>
                    <a:pt x="522" y="2445"/>
                  </a:lnTo>
                  <a:lnTo>
                    <a:pt x="584" y="2295"/>
                  </a:lnTo>
                  <a:lnTo>
                    <a:pt x="646" y="2119"/>
                  </a:lnTo>
                  <a:lnTo>
                    <a:pt x="716" y="1704"/>
                  </a:lnTo>
                  <a:lnTo>
                    <a:pt x="778" y="1404"/>
                  </a:lnTo>
                  <a:lnTo>
                    <a:pt x="849" y="0"/>
                  </a:lnTo>
                  <a:lnTo>
                    <a:pt x="911" y="468"/>
                  </a:lnTo>
                  <a:lnTo>
                    <a:pt x="973" y="795"/>
                  </a:lnTo>
                  <a:lnTo>
                    <a:pt x="1043" y="548"/>
                  </a:lnTo>
                  <a:lnTo>
                    <a:pt x="1105" y="1271"/>
                  </a:lnTo>
                  <a:lnTo>
                    <a:pt x="1176" y="1730"/>
                  </a:lnTo>
                  <a:lnTo>
                    <a:pt x="1238" y="1827"/>
                  </a:lnTo>
                  <a:lnTo>
                    <a:pt x="1300" y="1421"/>
                  </a:lnTo>
                  <a:lnTo>
                    <a:pt x="1370" y="2154"/>
                  </a:lnTo>
                  <a:lnTo>
                    <a:pt x="1432" y="2119"/>
                  </a:lnTo>
                  <a:lnTo>
                    <a:pt x="1494" y="1995"/>
                  </a:lnTo>
                  <a:lnTo>
                    <a:pt x="1565" y="2163"/>
                  </a:lnTo>
                  <a:lnTo>
                    <a:pt x="1627" y="1668"/>
                  </a:lnTo>
                  <a:lnTo>
                    <a:pt x="1697" y="2295"/>
                  </a:lnTo>
                  <a:lnTo>
                    <a:pt x="1759" y="2198"/>
                  </a:lnTo>
                  <a:lnTo>
                    <a:pt x="1821" y="2313"/>
                  </a:lnTo>
                  <a:lnTo>
                    <a:pt x="1892" y="2207"/>
                  </a:lnTo>
                  <a:lnTo>
                    <a:pt x="1954" y="1907"/>
                  </a:lnTo>
                  <a:lnTo>
                    <a:pt x="2015" y="2295"/>
                  </a:lnTo>
                  <a:lnTo>
                    <a:pt x="2086" y="2251"/>
                  </a:lnTo>
                  <a:lnTo>
                    <a:pt x="2148" y="2145"/>
                  </a:lnTo>
                  <a:lnTo>
                    <a:pt x="2219" y="2233"/>
                  </a:lnTo>
                  <a:lnTo>
                    <a:pt x="2281" y="1951"/>
                  </a:lnTo>
                  <a:lnTo>
                    <a:pt x="2343" y="2322"/>
                  </a:lnTo>
                  <a:lnTo>
                    <a:pt x="2413" y="2313"/>
                  </a:lnTo>
                  <a:lnTo>
                    <a:pt x="2475" y="2383"/>
                  </a:lnTo>
                  <a:lnTo>
                    <a:pt x="2546" y="2304"/>
                  </a:lnTo>
                  <a:lnTo>
                    <a:pt x="2608" y="2083"/>
                  </a:lnTo>
                  <a:lnTo>
                    <a:pt x="2670" y="2322"/>
                  </a:lnTo>
                  <a:lnTo>
                    <a:pt x="2740" y="2383"/>
                  </a:lnTo>
                  <a:lnTo>
                    <a:pt x="2802" y="2375"/>
                  </a:lnTo>
                  <a:lnTo>
                    <a:pt x="2864" y="2383"/>
                  </a:lnTo>
                  <a:lnTo>
                    <a:pt x="2935" y="2357"/>
                  </a:lnTo>
                  <a:lnTo>
                    <a:pt x="2997" y="2472"/>
                  </a:lnTo>
                  <a:lnTo>
                    <a:pt x="3067" y="2392"/>
                  </a:lnTo>
                  <a:lnTo>
                    <a:pt x="3129" y="2410"/>
                  </a:lnTo>
                  <a:lnTo>
                    <a:pt x="3191" y="2480"/>
                  </a:lnTo>
                  <a:lnTo>
                    <a:pt x="3262" y="2419"/>
                  </a:lnTo>
                  <a:lnTo>
                    <a:pt x="3324" y="2436"/>
                  </a:lnTo>
                  <a:lnTo>
                    <a:pt x="3385" y="2463"/>
                  </a:lnTo>
                  <a:lnTo>
                    <a:pt x="3456" y="2480"/>
                  </a:lnTo>
                  <a:lnTo>
                    <a:pt x="3518" y="2419"/>
                  </a:lnTo>
                  <a:lnTo>
                    <a:pt x="3589" y="2436"/>
                  </a:lnTo>
                  <a:lnTo>
                    <a:pt x="3651" y="2498"/>
                  </a:lnTo>
                  <a:lnTo>
                    <a:pt x="3712" y="2410"/>
                  </a:lnTo>
                  <a:lnTo>
                    <a:pt x="3783" y="2498"/>
                  </a:lnTo>
                  <a:lnTo>
                    <a:pt x="3845" y="2480"/>
                  </a:lnTo>
                  <a:lnTo>
                    <a:pt x="3916" y="2445"/>
                  </a:lnTo>
                  <a:lnTo>
                    <a:pt x="3978" y="2472"/>
                  </a:lnTo>
                  <a:lnTo>
                    <a:pt x="4040" y="2507"/>
                  </a:lnTo>
                  <a:lnTo>
                    <a:pt x="4110" y="2525"/>
                  </a:lnTo>
                  <a:lnTo>
                    <a:pt x="4172" y="2489"/>
                  </a:lnTo>
                  <a:lnTo>
                    <a:pt x="4234" y="2480"/>
                  </a:lnTo>
                  <a:lnTo>
                    <a:pt x="4305" y="2525"/>
                  </a:lnTo>
                  <a:lnTo>
                    <a:pt x="4367" y="2445"/>
                  </a:lnTo>
                  <a:lnTo>
                    <a:pt x="4437" y="2525"/>
                  </a:lnTo>
                  <a:lnTo>
                    <a:pt x="4499" y="2525"/>
                  </a:lnTo>
                  <a:lnTo>
                    <a:pt x="4561" y="2525"/>
                  </a:lnTo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Rectangle 18"/>
            <p:cNvSpPr/>
            <p:nvPr/>
          </p:nvSpPr>
          <p:spPr>
            <a:xfrm>
              <a:off x="1895760" y="534852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,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Rectangle 19"/>
            <p:cNvSpPr/>
            <p:nvPr/>
          </p:nvSpPr>
          <p:spPr>
            <a:xfrm>
              <a:off x="1895760" y="494352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,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Rectangle 20"/>
            <p:cNvSpPr/>
            <p:nvPr/>
          </p:nvSpPr>
          <p:spPr>
            <a:xfrm>
              <a:off x="1895760" y="452916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,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Rectangle 21"/>
            <p:cNvSpPr/>
            <p:nvPr/>
          </p:nvSpPr>
          <p:spPr>
            <a:xfrm>
              <a:off x="1895760" y="412272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,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Rectangle 22"/>
            <p:cNvSpPr/>
            <p:nvPr/>
          </p:nvSpPr>
          <p:spPr>
            <a:xfrm>
              <a:off x="1895760" y="371952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,8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Rectangle 23"/>
            <p:cNvSpPr/>
            <p:nvPr/>
          </p:nvSpPr>
          <p:spPr>
            <a:xfrm>
              <a:off x="1895760" y="330192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Rectangle 24"/>
            <p:cNvSpPr/>
            <p:nvPr/>
          </p:nvSpPr>
          <p:spPr>
            <a:xfrm>
              <a:off x="1895760" y="289872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Rectangle 25"/>
            <p:cNvSpPr/>
            <p:nvPr/>
          </p:nvSpPr>
          <p:spPr>
            <a:xfrm>
              <a:off x="1895760" y="248904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Rectangle 26"/>
            <p:cNvSpPr/>
            <p:nvPr/>
          </p:nvSpPr>
          <p:spPr>
            <a:xfrm>
              <a:off x="1895760" y="207288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Rectangle 27"/>
            <p:cNvSpPr/>
            <p:nvPr/>
          </p:nvSpPr>
          <p:spPr>
            <a:xfrm>
              <a:off x="1895760" y="166968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8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Rectangle 28"/>
            <p:cNvSpPr/>
            <p:nvPr/>
          </p:nvSpPr>
          <p:spPr>
            <a:xfrm>
              <a:off x="2401200" y="5535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Rectangle 29"/>
            <p:cNvSpPr/>
            <p:nvPr/>
          </p:nvSpPr>
          <p:spPr>
            <a:xfrm>
              <a:off x="2683440" y="5535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Rectangle 30"/>
            <p:cNvSpPr/>
            <p:nvPr/>
          </p:nvSpPr>
          <p:spPr>
            <a:xfrm>
              <a:off x="3064320" y="5535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Rectangle 31"/>
            <p:cNvSpPr/>
            <p:nvPr/>
          </p:nvSpPr>
          <p:spPr>
            <a:xfrm>
              <a:off x="3445200" y="5535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Rectangle 32"/>
            <p:cNvSpPr/>
            <p:nvPr/>
          </p:nvSpPr>
          <p:spPr>
            <a:xfrm>
              <a:off x="3826440" y="5535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Rectangle 33"/>
            <p:cNvSpPr/>
            <p:nvPr/>
          </p:nvSpPr>
          <p:spPr>
            <a:xfrm>
              <a:off x="4207320" y="5535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Rectangle 34"/>
            <p:cNvSpPr/>
            <p:nvPr/>
          </p:nvSpPr>
          <p:spPr>
            <a:xfrm>
              <a:off x="4632840" y="55548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Rectangle 35"/>
            <p:cNvSpPr/>
            <p:nvPr/>
          </p:nvSpPr>
          <p:spPr>
            <a:xfrm>
              <a:off x="5045400" y="55389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Rectangle 36"/>
            <p:cNvSpPr/>
            <p:nvPr/>
          </p:nvSpPr>
          <p:spPr>
            <a:xfrm>
              <a:off x="5426640" y="5535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Rectangle 37"/>
            <p:cNvSpPr/>
            <p:nvPr/>
          </p:nvSpPr>
          <p:spPr>
            <a:xfrm>
              <a:off x="5807520" y="5535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Rectangle 38"/>
            <p:cNvSpPr/>
            <p:nvPr/>
          </p:nvSpPr>
          <p:spPr>
            <a:xfrm>
              <a:off x="6188400" y="5535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Rectangle 39"/>
            <p:cNvSpPr/>
            <p:nvPr/>
          </p:nvSpPr>
          <p:spPr>
            <a:xfrm>
              <a:off x="6569640" y="5535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Rectangle 40"/>
            <p:cNvSpPr/>
            <p:nvPr/>
          </p:nvSpPr>
          <p:spPr>
            <a:xfrm>
              <a:off x="6950520" y="5535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Line 46"/>
            <p:cNvSpPr/>
            <p:nvPr/>
          </p:nvSpPr>
          <p:spPr>
            <a:xfrm flipV="1">
              <a:off x="2744640" y="5446800"/>
              <a:ext cx="1440" cy="44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Line 47"/>
            <p:cNvSpPr/>
            <p:nvPr/>
          </p:nvSpPr>
          <p:spPr>
            <a:xfrm flipV="1">
              <a:off x="3141720" y="5446800"/>
              <a:ext cx="4680" cy="44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Line 48"/>
            <p:cNvSpPr/>
            <p:nvPr/>
          </p:nvSpPr>
          <p:spPr>
            <a:xfrm flipV="1">
              <a:off x="3527280" y="5446800"/>
              <a:ext cx="0" cy="44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Line 49"/>
            <p:cNvSpPr/>
            <p:nvPr/>
          </p:nvSpPr>
          <p:spPr>
            <a:xfrm flipV="1">
              <a:off x="3924360" y="5446800"/>
              <a:ext cx="0" cy="44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Line 50"/>
            <p:cNvSpPr/>
            <p:nvPr/>
          </p:nvSpPr>
          <p:spPr>
            <a:xfrm flipV="1">
              <a:off x="4319640" y="5446800"/>
              <a:ext cx="1440" cy="44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Line 51"/>
            <p:cNvSpPr/>
            <p:nvPr/>
          </p:nvSpPr>
          <p:spPr>
            <a:xfrm flipV="1">
              <a:off x="4718160" y="5446800"/>
              <a:ext cx="1440" cy="44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Line 52"/>
            <p:cNvSpPr/>
            <p:nvPr/>
          </p:nvSpPr>
          <p:spPr>
            <a:xfrm flipV="1">
              <a:off x="5114880" y="5446800"/>
              <a:ext cx="1440" cy="44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Line 53"/>
            <p:cNvSpPr/>
            <p:nvPr/>
          </p:nvSpPr>
          <p:spPr>
            <a:xfrm flipV="1">
              <a:off x="5499000" y="5446800"/>
              <a:ext cx="0" cy="44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Line 54"/>
            <p:cNvSpPr/>
            <p:nvPr/>
          </p:nvSpPr>
          <p:spPr>
            <a:xfrm flipV="1">
              <a:off x="5896080" y="5446800"/>
              <a:ext cx="0" cy="44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Line 55"/>
            <p:cNvSpPr/>
            <p:nvPr/>
          </p:nvSpPr>
          <p:spPr>
            <a:xfrm flipV="1">
              <a:off x="6294600" y="5446800"/>
              <a:ext cx="0" cy="44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Line 56"/>
            <p:cNvSpPr/>
            <p:nvPr/>
          </p:nvSpPr>
          <p:spPr>
            <a:xfrm flipV="1">
              <a:off x="6688080" y="5446800"/>
              <a:ext cx="0" cy="44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Line 57"/>
            <p:cNvSpPr/>
            <p:nvPr/>
          </p:nvSpPr>
          <p:spPr>
            <a:xfrm flipV="1">
              <a:off x="7072200" y="5446800"/>
              <a:ext cx="0" cy="44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58"/>
            <p:cNvSpPr/>
            <p:nvPr/>
          </p:nvSpPr>
          <p:spPr>
            <a:xfrm>
              <a:off x="2408400" y="2464560"/>
              <a:ext cx="5118120" cy="2932200"/>
            </a:xfrm>
            <a:custGeom>
              <a:avLst/>
              <a:gdLst>
                <a:gd name="textAreaLeft" fmla="*/ 0 w 5118120"/>
                <a:gd name="textAreaRight" fmla="*/ 5118480 w 5118120"/>
                <a:gd name="textAreaTop" fmla="*/ 0 h 2932200"/>
                <a:gd name="textAreaBottom" fmla="*/ 2932560 h 2932200"/>
              </a:gdLst>
              <a:ahLst/>
              <a:rect l="textAreaLeft" t="textAreaTop" r="textAreaRight" b="textAreaBottom"/>
              <a:pathLst>
                <a:path w="4164" h="2166">
                  <a:moveTo>
                    <a:pt x="0" y="2103"/>
                  </a:moveTo>
                  <a:lnTo>
                    <a:pt x="67" y="2155"/>
                  </a:lnTo>
                  <a:lnTo>
                    <a:pt x="122" y="2155"/>
                  </a:lnTo>
                  <a:lnTo>
                    <a:pt x="189" y="2166"/>
                  </a:lnTo>
                  <a:lnTo>
                    <a:pt x="256" y="2134"/>
                  </a:lnTo>
                  <a:lnTo>
                    <a:pt x="323" y="2134"/>
                  </a:lnTo>
                  <a:lnTo>
                    <a:pt x="378" y="2134"/>
                  </a:lnTo>
                  <a:lnTo>
                    <a:pt x="445" y="2062"/>
                  </a:lnTo>
                  <a:lnTo>
                    <a:pt x="512" y="1886"/>
                  </a:lnTo>
                  <a:lnTo>
                    <a:pt x="579" y="1616"/>
                  </a:lnTo>
                  <a:lnTo>
                    <a:pt x="634" y="1368"/>
                  </a:lnTo>
                  <a:lnTo>
                    <a:pt x="701" y="332"/>
                  </a:lnTo>
                  <a:lnTo>
                    <a:pt x="768" y="269"/>
                  </a:lnTo>
                  <a:lnTo>
                    <a:pt x="835" y="0"/>
                  </a:lnTo>
                  <a:lnTo>
                    <a:pt x="891" y="1015"/>
                  </a:lnTo>
                  <a:lnTo>
                    <a:pt x="957" y="1295"/>
                  </a:lnTo>
                  <a:lnTo>
                    <a:pt x="1024" y="1482"/>
                  </a:lnTo>
                  <a:lnTo>
                    <a:pt x="1091" y="1689"/>
                  </a:lnTo>
                  <a:lnTo>
                    <a:pt x="1158" y="1824"/>
                  </a:lnTo>
                  <a:lnTo>
                    <a:pt x="1214" y="1855"/>
                  </a:lnTo>
                  <a:lnTo>
                    <a:pt x="1280" y="1668"/>
                  </a:lnTo>
                  <a:lnTo>
                    <a:pt x="1347" y="1958"/>
                  </a:lnTo>
                  <a:lnTo>
                    <a:pt x="1414" y="2041"/>
                  </a:lnTo>
                  <a:lnTo>
                    <a:pt x="1470" y="1958"/>
                  </a:lnTo>
                  <a:lnTo>
                    <a:pt x="1536" y="2124"/>
                  </a:lnTo>
                  <a:lnTo>
                    <a:pt x="1603" y="1958"/>
                  </a:lnTo>
                  <a:lnTo>
                    <a:pt x="1670" y="2103"/>
                  </a:lnTo>
                  <a:lnTo>
                    <a:pt x="1726" y="2083"/>
                  </a:lnTo>
                  <a:lnTo>
                    <a:pt x="1793" y="2114"/>
                  </a:lnTo>
                  <a:lnTo>
                    <a:pt x="1859" y="2103"/>
                  </a:lnTo>
                  <a:lnTo>
                    <a:pt x="1926" y="2062"/>
                  </a:lnTo>
                  <a:lnTo>
                    <a:pt x="1982" y="2134"/>
                  </a:lnTo>
                  <a:lnTo>
                    <a:pt x="2049" y="2114"/>
                  </a:lnTo>
                  <a:lnTo>
                    <a:pt x="2116" y="2124"/>
                  </a:lnTo>
                  <a:lnTo>
                    <a:pt x="2182" y="2134"/>
                  </a:lnTo>
                  <a:lnTo>
                    <a:pt x="2238" y="2103"/>
                  </a:lnTo>
                  <a:lnTo>
                    <a:pt x="2305" y="2145"/>
                  </a:lnTo>
                  <a:lnTo>
                    <a:pt x="2372" y="2145"/>
                  </a:lnTo>
                  <a:lnTo>
                    <a:pt x="2438" y="2166"/>
                  </a:lnTo>
                  <a:lnTo>
                    <a:pt x="2494" y="2134"/>
                  </a:lnTo>
                  <a:lnTo>
                    <a:pt x="2561" y="2114"/>
                  </a:lnTo>
                  <a:lnTo>
                    <a:pt x="2628" y="2155"/>
                  </a:lnTo>
                  <a:lnTo>
                    <a:pt x="2695" y="2166"/>
                  </a:lnTo>
                  <a:lnTo>
                    <a:pt x="2750" y="2145"/>
                  </a:lnTo>
                  <a:lnTo>
                    <a:pt x="2817" y="2166"/>
                  </a:lnTo>
                  <a:lnTo>
                    <a:pt x="2884" y="2166"/>
                  </a:lnTo>
                  <a:lnTo>
                    <a:pt x="2951" y="2155"/>
                  </a:lnTo>
                  <a:lnTo>
                    <a:pt x="3006" y="2166"/>
                  </a:lnTo>
                  <a:lnTo>
                    <a:pt x="3073" y="2166"/>
                  </a:lnTo>
                  <a:lnTo>
                    <a:pt x="3140" y="2145"/>
                  </a:lnTo>
                  <a:lnTo>
                    <a:pt x="3207" y="2134"/>
                  </a:lnTo>
                  <a:lnTo>
                    <a:pt x="3274" y="2155"/>
                  </a:lnTo>
                  <a:lnTo>
                    <a:pt x="3329" y="2166"/>
                  </a:lnTo>
                  <a:lnTo>
                    <a:pt x="3396" y="2166"/>
                  </a:lnTo>
                  <a:lnTo>
                    <a:pt x="3463" y="2155"/>
                  </a:lnTo>
                  <a:lnTo>
                    <a:pt x="3530" y="2155"/>
                  </a:lnTo>
                  <a:lnTo>
                    <a:pt x="3585" y="2166"/>
                  </a:lnTo>
                  <a:lnTo>
                    <a:pt x="3652" y="2166"/>
                  </a:lnTo>
                  <a:lnTo>
                    <a:pt x="3719" y="2155"/>
                  </a:lnTo>
                  <a:lnTo>
                    <a:pt x="3786" y="2155"/>
                  </a:lnTo>
                  <a:lnTo>
                    <a:pt x="3841" y="2166"/>
                  </a:lnTo>
                  <a:lnTo>
                    <a:pt x="3908" y="2166"/>
                  </a:lnTo>
                  <a:lnTo>
                    <a:pt x="3975" y="2166"/>
                  </a:lnTo>
                  <a:lnTo>
                    <a:pt x="4042" y="2166"/>
                  </a:lnTo>
                  <a:lnTo>
                    <a:pt x="4098" y="2166"/>
                  </a:lnTo>
                  <a:lnTo>
                    <a:pt x="4164" y="2166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Text Box 59"/>
            <p:cNvSpPr/>
            <p:nvPr/>
          </p:nvSpPr>
          <p:spPr>
            <a:xfrm>
              <a:off x="3935880" y="19839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H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Text Box 60"/>
            <p:cNvSpPr/>
            <p:nvPr/>
          </p:nvSpPr>
          <p:spPr>
            <a:xfrm>
              <a:off x="4480200" y="2212560"/>
              <a:ext cx="10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лкохо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Line 61"/>
            <p:cNvSpPr/>
            <p:nvPr/>
          </p:nvSpPr>
          <p:spPr>
            <a:xfrm flipH="1">
              <a:off x="3797640" y="2552400"/>
              <a:ext cx="67752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Line 62"/>
            <p:cNvSpPr/>
            <p:nvPr/>
          </p:nvSpPr>
          <p:spPr>
            <a:xfrm flipH="1">
              <a:off x="3474720" y="2247480"/>
              <a:ext cx="525240" cy="457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63"/>
            <p:cNvSpPr/>
            <p:nvPr/>
          </p:nvSpPr>
          <p:spPr>
            <a:xfrm>
              <a:off x="2417760" y="2933640"/>
              <a:ext cx="5462640" cy="2425680"/>
            </a:xfrm>
            <a:custGeom>
              <a:avLst/>
              <a:gdLst>
                <a:gd name="textAreaLeft" fmla="*/ 0 w 5462640"/>
                <a:gd name="textAreaRight" fmla="*/ 5463000 w 5462640"/>
                <a:gd name="textAreaTop" fmla="*/ 0 h 2425680"/>
                <a:gd name="textAreaBottom" fmla="*/ 2426040 h 2425680"/>
              </a:gdLst>
              <a:ahLst/>
              <a:rect l="textAreaLeft" t="textAreaTop" r="textAreaRight" b="textAreaBottom"/>
              <a:pathLst>
                <a:path w="4419" h="2374">
                  <a:moveTo>
                    <a:pt x="0" y="2374"/>
                  </a:moveTo>
                  <a:lnTo>
                    <a:pt x="62" y="2374"/>
                  </a:lnTo>
                  <a:lnTo>
                    <a:pt x="123" y="2365"/>
                  </a:lnTo>
                  <a:lnTo>
                    <a:pt x="185" y="2365"/>
                  </a:lnTo>
                  <a:lnTo>
                    <a:pt x="247" y="2339"/>
                  </a:lnTo>
                  <a:lnTo>
                    <a:pt x="309" y="2330"/>
                  </a:lnTo>
                  <a:lnTo>
                    <a:pt x="380" y="2312"/>
                  </a:lnTo>
                  <a:lnTo>
                    <a:pt x="442" y="2206"/>
                  </a:lnTo>
                  <a:lnTo>
                    <a:pt x="504" y="2206"/>
                  </a:lnTo>
                  <a:lnTo>
                    <a:pt x="565" y="2136"/>
                  </a:lnTo>
                  <a:lnTo>
                    <a:pt x="627" y="1844"/>
                  </a:lnTo>
                  <a:lnTo>
                    <a:pt x="689" y="1368"/>
                  </a:lnTo>
                  <a:lnTo>
                    <a:pt x="751" y="873"/>
                  </a:lnTo>
                  <a:lnTo>
                    <a:pt x="822" y="0"/>
                  </a:lnTo>
                  <a:lnTo>
                    <a:pt x="884" y="803"/>
                  </a:lnTo>
                  <a:lnTo>
                    <a:pt x="945" y="414"/>
                  </a:lnTo>
                  <a:lnTo>
                    <a:pt x="1007" y="856"/>
                  </a:lnTo>
                  <a:lnTo>
                    <a:pt x="1069" y="962"/>
                  </a:lnTo>
                  <a:lnTo>
                    <a:pt x="1131" y="1174"/>
                  </a:lnTo>
                  <a:lnTo>
                    <a:pt x="1202" y="1226"/>
                  </a:lnTo>
                  <a:lnTo>
                    <a:pt x="1264" y="53"/>
                  </a:lnTo>
                  <a:lnTo>
                    <a:pt x="1325" y="1553"/>
                  </a:lnTo>
                  <a:lnTo>
                    <a:pt x="1387" y="1474"/>
                  </a:lnTo>
                  <a:lnTo>
                    <a:pt x="1449" y="1377"/>
                  </a:lnTo>
                  <a:lnTo>
                    <a:pt x="1511" y="1650"/>
                  </a:lnTo>
                  <a:lnTo>
                    <a:pt x="1573" y="132"/>
                  </a:lnTo>
                  <a:lnTo>
                    <a:pt x="1644" y="1580"/>
                  </a:lnTo>
                  <a:lnTo>
                    <a:pt x="1706" y="1712"/>
                  </a:lnTo>
                  <a:lnTo>
                    <a:pt x="1767" y="1659"/>
                  </a:lnTo>
                  <a:lnTo>
                    <a:pt x="1829" y="1703"/>
                  </a:lnTo>
                  <a:lnTo>
                    <a:pt x="1891" y="723"/>
                  </a:lnTo>
                  <a:lnTo>
                    <a:pt x="1953" y="1394"/>
                  </a:lnTo>
                  <a:lnTo>
                    <a:pt x="2024" y="1500"/>
                  </a:lnTo>
                  <a:lnTo>
                    <a:pt x="2086" y="1482"/>
                  </a:lnTo>
                  <a:lnTo>
                    <a:pt x="2147" y="1518"/>
                  </a:lnTo>
                  <a:lnTo>
                    <a:pt x="2209" y="820"/>
                  </a:lnTo>
                  <a:lnTo>
                    <a:pt x="2271" y="1465"/>
                  </a:lnTo>
                  <a:lnTo>
                    <a:pt x="2333" y="1288"/>
                  </a:lnTo>
                  <a:lnTo>
                    <a:pt x="2395" y="1500"/>
                  </a:lnTo>
                  <a:lnTo>
                    <a:pt x="2466" y="1474"/>
                  </a:lnTo>
                  <a:lnTo>
                    <a:pt x="2528" y="1041"/>
                  </a:lnTo>
                  <a:lnTo>
                    <a:pt x="2589" y="1279"/>
                  </a:lnTo>
                  <a:lnTo>
                    <a:pt x="2651" y="1597"/>
                  </a:lnTo>
                  <a:lnTo>
                    <a:pt x="2713" y="1527"/>
                  </a:lnTo>
                  <a:lnTo>
                    <a:pt x="2775" y="1430"/>
                  </a:lnTo>
                  <a:lnTo>
                    <a:pt x="2846" y="1094"/>
                  </a:lnTo>
                  <a:lnTo>
                    <a:pt x="2908" y="1756"/>
                  </a:lnTo>
                  <a:lnTo>
                    <a:pt x="2969" y="1350"/>
                  </a:lnTo>
                  <a:lnTo>
                    <a:pt x="3031" y="1235"/>
                  </a:lnTo>
                  <a:lnTo>
                    <a:pt x="3093" y="1553"/>
                  </a:lnTo>
                  <a:lnTo>
                    <a:pt x="3155" y="1306"/>
                  </a:lnTo>
                  <a:lnTo>
                    <a:pt x="3217" y="1986"/>
                  </a:lnTo>
                  <a:lnTo>
                    <a:pt x="3288" y="1580"/>
                  </a:lnTo>
                  <a:lnTo>
                    <a:pt x="3350" y="1950"/>
                  </a:lnTo>
                  <a:lnTo>
                    <a:pt x="3411" y="1447"/>
                  </a:lnTo>
                  <a:lnTo>
                    <a:pt x="3473" y="1271"/>
                  </a:lnTo>
                  <a:lnTo>
                    <a:pt x="3535" y="1518"/>
                  </a:lnTo>
                  <a:lnTo>
                    <a:pt x="3597" y="1535"/>
                  </a:lnTo>
                  <a:lnTo>
                    <a:pt x="3668" y="1385"/>
                  </a:lnTo>
                  <a:lnTo>
                    <a:pt x="3730" y="1730"/>
                  </a:lnTo>
                  <a:lnTo>
                    <a:pt x="3791" y="1456"/>
                  </a:lnTo>
                  <a:lnTo>
                    <a:pt x="3853" y="1836"/>
                  </a:lnTo>
                  <a:lnTo>
                    <a:pt x="3915" y="2047"/>
                  </a:lnTo>
                  <a:lnTo>
                    <a:pt x="3977" y="1853"/>
                  </a:lnTo>
                  <a:lnTo>
                    <a:pt x="4039" y="1924"/>
                  </a:lnTo>
                  <a:lnTo>
                    <a:pt x="4110" y="1836"/>
                  </a:lnTo>
                  <a:lnTo>
                    <a:pt x="4171" y="1836"/>
                  </a:lnTo>
                  <a:lnTo>
                    <a:pt x="4233" y="1765"/>
                  </a:lnTo>
                  <a:lnTo>
                    <a:pt x="4295" y="1897"/>
                  </a:lnTo>
                  <a:lnTo>
                    <a:pt x="4357" y="2003"/>
                  </a:lnTo>
                  <a:lnTo>
                    <a:pt x="4419" y="209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Text Box 64"/>
            <p:cNvSpPr/>
            <p:nvPr/>
          </p:nvSpPr>
          <p:spPr>
            <a:xfrm>
              <a:off x="2419200" y="1679400"/>
              <a:ext cx="79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ува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Line 65"/>
            <p:cNvSpPr/>
            <p:nvPr/>
          </p:nvSpPr>
          <p:spPr>
            <a:xfrm>
              <a:off x="2781360" y="2018880"/>
              <a:ext cx="541080" cy="1143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Rectangle 65"/>
            <p:cNvSpPr/>
            <p:nvPr/>
          </p:nvSpPr>
          <p:spPr>
            <a:xfrm rot="16200000">
              <a:off x="-1062360" y="3665520"/>
              <a:ext cx="495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400" spc="-1" strike="noStrike">
                  <a:solidFill>
                    <a:srgbClr val="000000"/>
                  </a:solidFill>
                  <a:latin typeface="Arial"/>
                </a:rPr>
                <a:t>Проценат развоја зависноти по први пут по узрасним група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42984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Зависнос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д д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Osaka"/>
              </a:rPr>
              <a:t>р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Osaka"/>
              </a:rPr>
              <a:t>г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ста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теракциј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Osaka"/>
              </a:rPr>
              <a:t>ен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круж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туд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лизанац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нзистент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казуј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след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снов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лоупотреб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рог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дикциј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Text Box 5"/>
          <p:cNvSpPr/>
          <p:nvPr/>
        </p:nvSpPr>
        <p:spPr>
          <a:xfrm>
            <a:off x="2286000" y="297180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gene varia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6"/>
          <p:cNvSpPr/>
          <p:nvPr/>
        </p:nvSpPr>
        <p:spPr>
          <a:xfrm>
            <a:off x="4743360" y="3600360"/>
            <a:ext cx="76212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7"/>
          <p:cNvSpPr/>
          <p:nvPr/>
        </p:nvSpPr>
        <p:spPr>
          <a:xfrm>
            <a:off x="4367520" y="4071960"/>
            <a:ext cx="2256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tramural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DA/Perlegen/Was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ole Genome Sc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Nicotine Addi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Line 8"/>
          <p:cNvSpPr/>
          <p:nvPr/>
        </p:nvSpPr>
        <p:spPr>
          <a:xfrm flipH="1">
            <a:off x="3416400" y="3600360"/>
            <a:ext cx="8380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9"/>
          <p:cNvSpPr/>
          <p:nvPr/>
        </p:nvSpPr>
        <p:spPr>
          <a:xfrm>
            <a:off x="1695240" y="4057560"/>
            <a:ext cx="2337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ramural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ymetrix 500K scre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Drug Addi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9" name="Text Box 8"/>
          <p:cNvSpPr/>
          <p:nvPr/>
        </p:nvSpPr>
        <p:spPr>
          <a:xfrm>
            <a:off x="0" y="22860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Ади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к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ц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ија је к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омпле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ксан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би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х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еј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виорал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ни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,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н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еуробиоло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шки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,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и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г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енет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ски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поремећа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9"/>
          <p:cNvSpPr/>
          <p:nvPr/>
        </p:nvSpPr>
        <p:spPr>
          <a:xfrm>
            <a:off x="46440" y="2000160"/>
            <a:ext cx="255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NVIRONMENT &amp; DR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XPO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 Box 10"/>
          <p:cNvSpPr/>
          <p:nvPr/>
        </p:nvSpPr>
        <p:spPr>
          <a:xfrm>
            <a:off x="4648320" y="1981080"/>
            <a:ext cx="197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YNAPTI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LASTI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 Box 11"/>
          <p:cNvSpPr/>
          <p:nvPr/>
        </p:nvSpPr>
        <p:spPr>
          <a:xfrm>
            <a:off x="7605720" y="1981080"/>
            <a:ext cx="1140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RAI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 Box 12"/>
          <p:cNvSpPr/>
          <p:nvPr/>
        </p:nvSpPr>
        <p:spPr>
          <a:xfrm>
            <a:off x="2943000" y="1981080"/>
            <a:ext cx="1198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ENET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VARI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4" name="Picture 14" descr="BallAndStick.jpg">
            <a:hlinkClick r:id="rId1"/>
          </p:cNvPr>
          <p:cNvPicPr/>
          <p:nvPr/>
        </p:nvPicPr>
        <p:blipFill>
          <a:blip r:embed="rId2"/>
          <a:srcRect l="16000" t="0" r="16000" b="0"/>
          <a:stretch/>
        </p:blipFill>
        <p:spPr>
          <a:xfrm>
            <a:off x="2797200" y="2895480"/>
            <a:ext cx="1319040" cy="2133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5" name="AutoShape 15"/>
          <p:cNvSpPr/>
          <p:nvPr/>
        </p:nvSpPr>
        <p:spPr>
          <a:xfrm>
            <a:off x="2416320" y="3429000"/>
            <a:ext cx="457200" cy="228600"/>
          </a:xfrm>
          <a:custGeom>
            <a:avLst/>
            <a:gdLst>
              <a:gd name="textAreaLeft" fmla="*/ 568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AutoShape 17"/>
          <p:cNvSpPr/>
          <p:nvPr/>
        </p:nvSpPr>
        <p:spPr>
          <a:xfrm>
            <a:off x="4092480" y="3505320"/>
            <a:ext cx="457200" cy="228600"/>
          </a:xfrm>
          <a:custGeom>
            <a:avLst/>
            <a:gdLst>
              <a:gd name="textAreaLeft" fmla="*/ 568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AutoShape 25"/>
          <p:cNvSpPr/>
          <p:nvPr/>
        </p:nvSpPr>
        <p:spPr>
          <a:xfrm flipV="1">
            <a:off x="7978680" y="2743200"/>
            <a:ext cx="685800" cy="380880"/>
          </a:xfrm>
          <a:custGeom>
            <a:avLst/>
            <a:gdLst>
              <a:gd name="textAreaLeft" fmla="*/ 0 w 685800"/>
              <a:gd name="textAreaRight" fmla="*/ 587880 w 685800"/>
              <a:gd name="textAreaTop" fmla="*/ 254520 h 380880"/>
              <a:gd name="textAreaBottom" fmla="*/ 381600 h 3808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8" name="Picture 27" descr=""/>
          <p:cNvPicPr/>
          <p:nvPr/>
        </p:nvPicPr>
        <p:blipFill>
          <a:blip r:embed="rId3"/>
          <a:stretch/>
        </p:blipFill>
        <p:spPr>
          <a:xfrm>
            <a:off x="7369200" y="3200400"/>
            <a:ext cx="1698480" cy="1905120"/>
          </a:xfrm>
          <a:prstGeom prst="rect">
            <a:avLst/>
          </a:prstGeom>
          <a:ln w="0">
            <a:noFill/>
          </a:ln>
        </p:spPr>
      </p:pic>
      <p:grpSp>
        <p:nvGrpSpPr>
          <p:cNvPr id="1409" name="Group 70"/>
          <p:cNvGrpSpPr/>
          <p:nvPr/>
        </p:nvGrpSpPr>
        <p:grpSpPr>
          <a:xfrm>
            <a:off x="4549680" y="2743200"/>
            <a:ext cx="2590560" cy="2362320"/>
            <a:chOff x="4549680" y="2743200"/>
            <a:chExt cx="2590560" cy="2362320"/>
          </a:xfrm>
        </p:grpSpPr>
        <p:pic>
          <p:nvPicPr>
            <p:cNvPr id="1410" name="Picture 33" descr=""/>
            <p:cNvPicPr/>
            <p:nvPr/>
          </p:nvPicPr>
          <p:blipFill>
            <a:blip r:embed="rId4"/>
            <a:srcRect l="11339" t="10247" r="62828" b="7988"/>
            <a:stretch/>
          </p:blipFill>
          <p:spPr>
            <a:xfrm>
              <a:off x="4549680" y="2743200"/>
              <a:ext cx="73764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1" name="Picture 34" descr=""/>
            <p:cNvPicPr/>
            <p:nvPr/>
          </p:nvPicPr>
          <p:blipFill>
            <a:blip r:embed="rId5"/>
            <a:stretch/>
          </p:blipFill>
          <p:spPr>
            <a:xfrm>
              <a:off x="5225040" y="2743200"/>
              <a:ext cx="1915200" cy="235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2" name="Line 53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3" name="Object 66"/>
          <p:cNvGraphicFramePr/>
          <p:nvPr/>
        </p:nvGraphicFramePr>
        <p:xfrm>
          <a:off x="54000" y="2819520"/>
          <a:ext cx="2305080" cy="2130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14" name="Object 6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000" y="2819520"/>
                    <a:ext cx="230508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5" name=""/>
          <p:cNvSpPr txBox="1"/>
          <p:nvPr/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20:31:58Z</dcterms:created>
  <dc:creator>XP</dc:creator>
  <dc:description/>
  <dc:language>en-US</dc:language>
  <cp:lastModifiedBy>Minja</cp:lastModifiedBy>
  <dcterms:modified xsi:type="dcterms:W3CDTF">2017-01-30T21:55:46Z</dcterms:modified>
  <cp:revision>34</cp:revision>
  <dc:subject/>
  <dc:title>Neuroanatomija,neurobiologija i farmakologija</dc:title>
</cp:coreProperties>
</file>